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FF3-4B42-43BC-9088-C916C8A8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1B08-3278-4AD9-A06C-4810857E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7FE-DD84-476F-A6EA-4440C93C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1EE9-E97A-458B-B4FE-FF1ADA4A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CC5D-3D75-4447-A360-5EA980BD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5FD9-56B9-4322-A96C-E14C42FD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057F-3294-4041-ADCD-400181D3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D263-8829-4CC6-A3B4-79E10DD1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3548-ED6E-4EFF-80FA-6DFDA340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24F1-B080-4329-AA82-E6181EFC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73F3-D826-4B9F-A770-865595B7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9FD3-B95C-465E-80B3-254F1B7F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D40D-EC8F-48EE-9545-96FAE2A6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2BD9-08B9-4FDA-BB06-C71EDF3B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4EB5-5B45-4D74-9ADA-611B200A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6F13-AE59-4D11-9BCF-8F002CD1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9BAF-2EAD-49FB-8A41-D169BB64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F43-A449-41F2-B8F3-FFF5C1AF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B8E-CB65-4F5A-A4CC-E7D6C759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052-7728-4043-8068-734C235C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12C-D417-42FE-86E0-7C24FB0B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1E6-C8DC-494C-8840-FBF93971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FDE-1B9F-447A-9EAD-BCFAE11E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0635-26F2-4862-A9F6-9952D516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2AAE-9C3B-4E1E-A31B-6DE9F07780C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3E7D-F2DE-40DB-9770-049B40D884A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allrecipes.com/Recipes/Pasta/Macaroni-and-Cheese/Top.aspx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971800"/>
            <a:ext cx="8229600" cy="1139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Jeterra Walla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686800" y="6553080"/>
            <a:ext cx="45720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9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ing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1676520"/>
            <a:ext cx="8467560" cy="2152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b2b2b2"/>
                </a:solidFill>
                <a:latin typeface="Perpetua Titling MT"/>
              </a:rPr>
              <a:t>My favorite </a:t>
            </a:r>
            <a:endParaRPr b="0" lang="en-US" sz="7200" spc="1" strike="noStrike">
              <a:ln w="9360">
                <a:solidFill>
                  <a:srgbClr val="3399ff"/>
                </a:solidFill>
                <a:miter/>
              </a:ln>
              <a:solidFill>
                <a:srgbClr val="b2b2b2"/>
              </a:solidFill>
              <a:latin typeface="Perpetua Titling MT"/>
              <a:ea typeface="Perpetua Titling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b2b2b2"/>
                </a:solidFill>
                <a:latin typeface="Perpetua Titling MT"/>
              </a:rPr>
              <a:t>websites include</a:t>
            </a:r>
            <a:endParaRPr b="0" lang="en-US" sz="7200" spc="1" strike="noStrike">
              <a:ln w="9360">
                <a:solidFill>
                  <a:srgbClr val="3399ff"/>
                </a:solidFill>
                <a:miter/>
              </a:ln>
              <a:solidFill>
                <a:srgbClr val="b2b2b2"/>
              </a:solidFill>
              <a:latin typeface="Perpetua Titling MT"/>
              <a:ea typeface="Perpetua Titling MT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My favorite foo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3200400"/>
            <a:ext cx="7696440" cy="22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Tekton Pro Ext"/>
              </a:rPr>
              <a:t>Fajitas</a:t>
            </a:r>
            <a:endParaRPr b="1" lang="en-US" sz="1800" spc="1" strike="noStrike">
              <a:ln w="9360">
                <a:solidFill>
                  <a:srgbClr val="3399ff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Tekton Pro Ext"/>
              <a:ea typeface="Tekton Pro 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Tekton Pro Ext"/>
              </a:rPr>
              <a:t>macaroni and cheese,</a:t>
            </a:r>
            <a:endParaRPr b="1" lang="en-US" sz="1800" spc="1" strike="noStrike">
              <a:ln w="9360">
                <a:solidFill>
                  <a:srgbClr val="3399ff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Tekton Pro Ext"/>
              <a:ea typeface="Tekton Pro 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Tekton Pro Ext"/>
              </a:rPr>
              <a:t>and crawfish.</a:t>
            </a:r>
            <a:endParaRPr b="1" lang="en-US" sz="1800" spc="1" strike="noStrike">
              <a:ln w="9360">
                <a:solidFill>
                  <a:srgbClr val="3399ff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Tekton Pro Ext"/>
              <a:ea typeface="Tekton Pro Ex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17524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’m good 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0" y="31240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ncing, cooking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hotograph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Bradley Hand ITC"/>
              </a:rPr>
              <a:t>If I Could I Would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10199"/>
                </a:solidFill>
                <a:latin typeface="Bradley Hand ITC"/>
              </a:rPr>
              <a:t>Be a direct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10199"/>
                </a:solidFill>
                <a:latin typeface="Bradley Hand ITC"/>
              </a:rPr>
              <a:t> </a:t>
            </a:r>
            <a:r>
              <a:rPr b="1" lang="en-US" sz="6000" spc="-1" strike="noStrike">
                <a:solidFill>
                  <a:srgbClr val="010199"/>
                </a:solidFill>
                <a:latin typeface="Bradley Hand ITC"/>
              </a:rPr>
              <a:t>of my own dance team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0101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99ff"/>
                </a:solidFill>
                <a:latin typeface="Bickham Script Pro Regular"/>
              </a:rPr>
              <a:t>My Favorite Teachers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Pink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Guill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We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If I Could I Would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Have told my grandfather I loved him before he passed a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Get my own apt and live life in the fast la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dd more hours to the day, so that I could see everyone I l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Help the children in Af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In 10 Years I will b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Working at a plant called Motiva or directing an high school dance t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10199"/>
                </a:solidFill>
                <a:latin typeface="Arial"/>
              </a:rPr>
              <a:t>My Favorite athletes, singers, and dancers are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743200" y="52574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chel Jordan, Beyonce Knowels, and the Southern University Dancing Do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2895480" cy="4114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477120" y="1371600"/>
            <a:ext cx="2666880" cy="3276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24080" y="1600200"/>
            <a:ext cx="304812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40:02Z</dcterms:created>
  <dc:creator>762703</dc:creator>
  <dc:description/>
  <dc:language>en-US</dc:language>
  <cp:lastModifiedBy>762703</cp:lastModifiedBy>
  <dcterms:modified xsi:type="dcterms:W3CDTF">2008-10-28T16:04:28Z</dcterms:modified>
  <cp:revision>9</cp:revision>
  <dc:subject/>
  <dc:title>I’m good at</dc:title>
</cp:coreProperties>
</file>